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223F-40EB-46A3-A8A1-02FC0B03A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107D-F05D-477E-8D3A-1B2DC024E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DBDA-C4DB-45DD-AE08-89B59F87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6DC1-196B-450D-B098-50B2F95D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D03-32CA-4781-B25B-0D5C4471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6CE1-8CA9-4B16-9356-E535628F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0864-9B12-4EC4-8A52-B30ED482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B4A2-923E-4575-A385-010AD4F8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57AC-85CF-4D7B-A2BE-CFE92CA0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B6A5-C685-4E55-911A-707BB571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69C7-9BF7-4D28-BEA7-33DE353F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579F-BA7B-46BA-B645-3393B2EB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AF2F-C6C9-4E0E-90CC-BDF98003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7CF-E478-4938-979B-42C037B7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49D8-49F0-4FB4-8263-718627B1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3577-767A-43BD-A498-9B7CB070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AC21-84D3-4275-B6A5-7A913B2C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16D3-0EA3-4373-BF42-70920981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B285-55BD-4533-BEF3-7A412B15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D03A3-549C-41A7-9B4D-A854627B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29B18-67B6-44EF-A8C2-F306AD1E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27528-9C49-455A-93E2-3C255953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03661-FCAF-4327-B5DF-5B917024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2BB5B-0687-4663-83B6-0FC9F180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ECB-FD19-4D90-AFDC-A588AFEF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6B1D3-964A-4AB3-A36C-C9C20F42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44E3C-6FE0-4CF3-8212-F7F5AEDB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C4C55-BD12-48F7-B197-D4BC381F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23064-09CE-4718-AE29-4FD805D4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4FC25-4C05-4FCD-A8A6-2437D3B7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40E61-171D-447C-928F-32915385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B6904-3E94-4DDB-BDC2-225A0819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26E2F-8771-43F8-894F-557EFB0E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51763-B4DF-4593-9C6C-04F1D790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A7F62-5D92-418C-BFB8-97B1F387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3255-143C-47F1-8B35-DB24A46E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1042E-F585-4AD5-B299-333F1296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A8AF6-3F52-4254-BC29-5F500BD7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E3B13-3993-42C9-B788-897124FF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42191-CF9C-4939-953E-EEEA6C66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48550-0AC4-4F8D-9D18-F7D43BEB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15DF0-1421-4DE6-9E60-A537010C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F9935-B297-4FB8-955D-FCB885A8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7A842-D09B-4C9E-BA99-29CB70B3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48BA5-7CF9-47AB-BB75-5AD16212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1DA867-8FC8-4927-AFBE-0A6F7843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7D36-F949-49CE-9D58-E23F3E21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6B6E3-AE5D-48E3-AFA1-46AA198E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6935DC-A09E-4E2A-A7C4-2EBAF761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4CE06A-0536-41AD-8E3D-2DA37CBC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BFAED3-3AEF-4DDB-BA2E-211D6C2A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D5E1E4-FA3E-435B-BD43-9D5E00B1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2A7752-58A8-4E5F-8BA2-3DAFE3B7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EF8B8A-C63B-4DD1-BB80-109225E3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9CB1AD-562D-4D04-B8A6-D3CCF7CE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AA557-047A-42A8-9632-411D863E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3DCA60-EE6B-4AE2-9AD0-40EAD6C5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ACB-4E14-4216-989F-5332C5B3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E115A7-A1C5-480D-ADBE-A45C0524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3A885A-9B89-495C-B79A-48DF705A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D3E9C3-297D-4D30-8755-CACA7616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A565B2-9940-47E5-8C50-0D1A4B25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82716E-E257-4B33-B9D5-723AFF75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E9AE3-155F-4365-9C6C-E63F1C8B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E962A6-73DB-464D-AE38-0A6599E7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61320A-3267-4B9E-BC37-3047FAA2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258641-171B-4548-8F61-FB8F5504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EF7801-DACA-4758-9ADA-BF64C07F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8868-DC82-47E3-A726-9FC97996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3D72E2-E1DB-4EC0-BD6D-EB7650BB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FFF56A-F507-497E-A884-D0540A53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C929F6-E92A-4A38-B7F7-7A4C9A46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70A83C-E391-43E6-91B7-0A1FF0B3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A8C930-5FF4-47A3-877A-ED929218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91182-F6F1-496D-964F-FD082CBD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E57043-6584-4B42-A358-9C5EAABB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0AC9D0-A299-48BB-821D-3EC2F9BA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EAAF1A-8430-4D7A-B289-6EC5BD77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7AF75F-7CE2-437E-A284-0B308CDE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0DD5-57BB-4181-BD63-7E9DE386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B9CA58-028E-4472-A9A5-8DD2B8BF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3DB0FA-7E61-4383-96B4-5586D1F7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B5B06F-B7E3-44ED-8690-4CF34647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0D2DF0-3B15-4D5D-A9D9-B74052BA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3373CD-1F07-421D-9B67-B0924A6A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D6F-A71F-4379-8918-8FDE7F7D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BC80-9957-4B55-8442-B9135B1B942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3C22-DA43-449D-9963-7C83C4B5BB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50E7-B939-4FC8-8FC7-C52235DBFA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534A-405C-4951-A8B4-98BF004389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1EA3-9B46-4343-B98F-6A2B3A6807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6CD4-959A-4687-A4C7-60FEA1D5235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B83D-7469-4764-8C3F-66BD76DE75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microsoft-powerpoint-2007.jpg"/>
          <p:cNvPicPr/>
          <p:nvPr/>
        </p:nvPicPr>
        <p:blipFill>
          <a:blip r:embed="rId1"/>
          <a:stretch/>
        </p:blipFill>
        <p:spPr>
          <a:xfrm>
            <a:off x="2362320" y="3200400"/>
            <a:ext cx="6548400" cy="3429000"/>
          </a:xfrm>
          <a:prstGeom prst="rect">
            <a:avLst/>
          </a:prstGeom>
          <a:ln w="0">
            <a:noFill/>
          </a:ln>
        </p:spPr>
      </p:pic>
      <p:pic>
        <p:nvPicPr>
          <p:cNvPr id="359" name="TextBox 4" descr=""/>
          <p:cNvPicPr/>
          <p:nvPr/>
        </p:nvPicPr>
        <p:blipFill>
          <a:blip r:embed="rId2"/>
          <a:stretch/>
        </p:blipFill>
        <p:spPr>
          <a:xfrm>
            <a:off x="2292480" y="542880"/>
            <a:ext cx="6138720" cy="1730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NIUL FI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cent-daca se da click se poate observa optiunea Blank Presentation care stergea tot ceea ce a fost scris pe slide-ul respecti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int- folosit pentru printarea unuia sau mai multor slide-ur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7" name="Picture 3" descr="efcdcf.png"/>
          <p:cNvPicPr/>
          <p:nvPr/>
        </p:nvPicPr>
        <p:blipFill>
          <a:blip r:embed="rId1"/>
          <a:stretch/>
        </p:blipFill>
        <p:spPr>
          <a:xfrm>
            <a:off x="609480" y="3886200"/>
            <a:ext cx="7126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MENIUL HOME 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În exemplul de mai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os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fila Pornire (Home) este activă şi este formată din grupurile Clipboard (Clipboard), Diapozitive (Slides), Font (Font) şi Paragraf (Paragraph). Acestea sunt compuse din butoane de comenzi corespunzătoare: copierea şi lipirea; adăugarea, modificarea aspectului diapozitivelor; operaţii cu diapozitive; modificare caractere, paragrafe</a:t>
            </a:r>
            <a:r>
              <a:rPr b="0" i="1" lang="vi-V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152280" y="4267080"/>
            <a:ext cx="8796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5400" spc="-1" strike="noStrike">
                <a:solidFill>
                  <a:srgbClr val="000000"/>
                </a:solidFill>
                <a:latin typeface="Times New Roman"/>
              </a:rPr>
              <a:t>CLIPBOARD (CLIPBOARD)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rcRect l="0" t="28478" r="87704" b="23963"/>
          <a:stretch/>
        </p:blipFill>
        <p:spPr>
          <a:xfrm>
            <a:off x="380880" y="1676520"/>
            <a:ext cx="2090880" cy="2203200"/>
          </a:xfrm>
          <a:prstGeom prst="rect">
            <a:avLst/>
          </a:prstGeom>
          <a:ln w="0">
            <a:noFill/>
          </a:ln>
        </p:spPr>
      </p:pic>
      <p:cxnSp>
        <p:nvCxnSpPr>
          <p:cNvPr id="365" name="Straight Arrow Connector 5"/>
          <p:cNvCxnSpPr/>
          <p:nvPr/>
        </p:nvCxnSpPr>
        <p:spPr>
          <a:xfrm flipV="1">
            <a:off x="1981080" y="1828080"/>
            <a:ext cx="228672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66" name="TextBox 6"/>
          <p:cNvSpPr/>
          <p:nvPr/>
        </p:nvSpPr>
        <p:spPr>
          <a:xfrm>
            <a:off x="4419720" y="16002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UT  Ctrl+X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7" name="Straight Arrow Connector 8"/>
          <p:cNvCxnSpPr/>
          <p:nvPr/>
        </p:nvCxnSpPr>
        <p:spPr>
          <a:xfrm>
            <a:off x="1981080" y="2590560"/>
            <a:ext cx="2439000" cy="766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8" name="Straight Arrow Connector 10"/>
          <p:cNvCxnSpPr/>
          <p:nvPr/>
        </p:nvCxnSpPr>
        <p:spPr>
          <a:xfrm>
            <a:off x="1981080" y="3123720"/>
            <a:ext cx="2363040" cy="686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9" name="Straight Arrow Connector 12"/>
          <p:cNvCxnSpPr/>
          <p:nvPr/>
        </p:nvCxnSpPr>
        <p:spPr>
          <a:xfrm>
            <a:off x="1066680" y="2590560"/>
            <a:ext cx="1524960" cy="24390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70" name="TextBox 16"/>
          <p:cNvSpPr/>
          <p:nvPr/>
        </p:nvSpPr>
        <p:spPr>
          <a:xfrm>
            <a:off x="4495680" y="23623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OPY  Ctrl+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TextBox 17"/>
          <p:cNvSpPr/>
          <p:nvPr/>
        </p:nvSpPr>
        <p:spPr>
          <a:xfrm>
            <a:off x="4419720" y="34290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rmat Painter 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opii formatul unui lucru si il folosesti pentru alt lucru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TextBox 18"/>
          <p:cNvSpPr/>
          <p:nvPr/>
        </p:nvSpPr>
        <p:spPr>
          <a:xfrm>
            <a:off x="2590920" y="51055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PIRE (PASTE) Ctrl+V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6000" spc="-1" strike="noStrike">
                <a:solidFill>
                  <a:srgbClr val="000000"/>
                </a:solidFill>
                <a:latin typeface="Times New Roman"/>
              </a:rPr>
              <a:t>DIAPOZITIVE</a:t>
            </a:r>
            <a:r>
              <a:rPr b="0" lang="vi-VN" sz="6000" spc="-1" strike="noStrike">
                <a:solidFill>
                  <a:srgbClr val="575f6d"/>
                </a:solidFill>
                <a:latin typeface="Times New Roman"/>
              </a:rPr>
              <a:t> </a:t>
            </a:r>
            <a:r>
              <a:rPr b="0" lang="vi-VN" sz="6000" spc="-1" strike="noStrike">
                <a:solidFill>
                  <a:srgbClr val="000000"/>
                </a:solidFill>
                <a:latin typeface="Times New Roman"/>
              </a:rPr>
              <a:t>(SLIDES)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rcRect l="11784" t="25945" r="64659" b="22165"/>
          <a:stretch/>
        </p:blipFill>
        <p:spPr>
          <a:xfrm>
            <a:off x="304920" y="1523880"/>
            <a:ext cx="3301920" cy="2057400"/>
          </a:xfrm>
          <a:prstGeom prst="rect">
            <a:avLst/>
          </a:prstGeom>
          <a:ln w="0">
            <a:noFill/>
          </a:ln>
        </p:spPr>
      </p:pic>
      <p:cxnSp>
        <p:nvCxnSpPr>
          <p:cNvPr id="375" name="Straight Arrow Connector 7"/>
          <p:cNvCxnSpPr/>
          <p:nvPr/>
        </p:nvCxnSpPr>
        <p:spPr>
          <a:xfrm>
            <a:off x="2971800" y="1905120"/>
            <a:ext cx="26672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6" name="Straight Arrow Connector 10"/>
          <p:cNvCxnSpPr/>
          <p:nvPr/>
        </p:nvCxnSpPr>
        <p:spPr>
          <a:xfrm>
            <a:off x="3504960" y="2437920"/>
            <a:ext cx="2057760" cy="686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7" name="Straight Arrow Connector 12"/>
          <p:cNvCxnSpPr/>
          <p:nvPr/>
        </p:nvCxnSpPr>
        <p:spPr>
          <a:xfrm>
            <a:off x="2742840" y="2971440"/>
            <a:ext cx="2591640" cy="15246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8" name="Straight Arrow Connector 14"/>
          <p:cNvCxnSpPr/>
          <p:nvPr/>
        </p:nvCxnSpPr>
        <p:spPr>
          <a:xfrm>
            <a:off x="1066680" y="2819160"/>
            <a:ext cx="1067760" cy="19818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79" name="TextBox 17"/>
          <p:cNvSpPr/>
          <p:nvPr/>
        </p:nvSpPr>
        <p:spPr>
          <a:xfrm>
            <a:off x="5562720" y="15238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utonul Aspect ne da posibilitatea de a alege aspectul dispozitivului (slide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TextBox 22"/>
          <p:cNvSpPr/>
          <p:nvPr/>
        </p:nvSpPr>
        <p:spPr>
          <a:xfrm>
            <a:off x="5638680" y="29718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utonul Reinitializare ne da posibilitatea de a reinitializa ultima pozitie facuta 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TextBox 26"/>
          <p:cNvSpPr/>
          <p:nvPr/>
        </p:nvSpPr>
        <p:spPr>
          <a:xfrm>
            <a:off x="5410080" y="44197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utonul Stergere ne da posibilitatea de a sterge dispozitivul (slide) cure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TextBox 27"/>
          <p:cNvSpPr/>
          <p:nvPr/>
        </p:nvSpPr>
        <p:spPr>
          <a:xfrm>
            <a:off x="1066680" y="48006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pasand butonul acesta putem introduce un dispozitiv (slide) nou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6000" spc="-1" strike="noStrike">
                <a:solidFill>
                  <a:srgbClr val="000000"/>
                </a:solidFill>
                <a:latin typeface="Times New Roman"/>
              </a:rPr>
              <a:t>FONT (FONT)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rcRect l="34684" t="24147" r="29975" b="23963"/>
          <a:stretch/>
        </p:blipFill>
        <p:spPr>
          <a:xfrm>
            <a:off x="2514600" y="3048120"/>
            <a:ext cx="4000680" cy="1600200"/>
          </a:xfrm>
          <a:prstGeom prst="rect">
            <a:avLst/>
          </a:prstGeom>
          <a:ln w="0">
            <a:noFill/>
          </a:ln>
        </p:spPr>
      </p:pic>
      <p:cxnSp>
        <p:nvCxnSpPr>
          <p:cNvPr id="385" name="Straight Arrow Connector 48"/>
          <p:cNvCxnSpPr/>
          <p:nvPr/>
        </p:nvCxnSpPr>
        <p:spPr>
          <a:xfrm flipH="1" flipV="1">
            <a:off x="1752120" y="2590560"/>
            <a:ext cx="1372320" cy="8388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6" name="Straight Arrow Connector 50"/>
          <p:cNvCxnSpPr/>
          <p:nvPr/>
        </p:nvCxnSpPr>
        <p:spPr>
          <a:xfrm flipH="1" flipV="1">
            <a:off x="3733200" y="2133360"/>
            <a:ext cx="1065960" cy="13737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7" name="Straight Arrow Connector 53"/>
          <p:cNvCxnSpPr/>
          <p:nvPr/>
        </p:nvCxnSpPr>
        <p:spPr>
          <a:xfrm flipH="1" flipV="1">
            <a:off x="4114440" y="2208960"/>
            <a:ext cx="1448640" cy="12200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8" name="Straight Arrow Connector 57"/>
          <p:cNvCxnSpPr/>
          <p:nvPr/>
        </p:nvCxnSpPr>
        <p:spPr>
          <a:xfrm flipV="1">
            <a:off x="6095880" y="2590560"/>
            <a:ext cx="457920" cy="9151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9" name="Straight Arrow Connector 59"/>
          <p:cNvCxnSpPr/>
          <p:nvPr/>
        </p:nvCxnSpPr>
        <p:spPr>
          <a:xfrm flipH="1" flipV="1">
            <a:off x="1904400" y="3657240"/>
            <a:ext cx="991080" cy="457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0" name="Straight Arrow Connector 63"/>
          <p:cNvCxnSpPr/>
          <p:nvPr/>
        </p:nvCxnSpPr>
        <p:spPr>
          <a:xfrm flipH="1">
            <a:off x="1447200" y="4114800"/>
            <a:ext cx="1905480" cy="5342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1" name="Straight Arrow Connector 65"/>
          <p:cNvCxnSpPr/>
          <p:nvPr/>
        </p:nvCxnSpPr>
        <p:spPr>
          <a:xfrm flipH="1">
            <a:off x="1980360" y="4038120"/>
            <a:ext cx="1677240" cy="17535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2" name="Straight Arrow Connector 68"/>
          <p:cNvCxnSpPr/>
          <p:nvPr/>
        </p:nvCxnSpPr>
        <p:spPr>
          <a:xfrm flipH="1" flipV="1">
            <a:off x="3276000" y="2895120"/>
            <a:ext cx="764280" cy="1069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3" name="Straight Arrow Connector 72"/>
          <p:cNvCxnSpPr/>
          <p:nvPr/>
        </p:nvCxnSpPr>
        <p:spPr>
          <a:xfrm flipH="1">
            <a:off x="4037760" y="3962520"/>
            <a:ext cx="381960" cy="16768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4" name="Straight Arrow Connector 74"/>
          <p:cNvCxnSpPr/>
          <p:nvPr/>
        </p:nvCxnSpPr>
        <p:spPr>
          <a:xfrm>
            <a:off x="4875840" y="4038480"/>
            <a:ext cx="533880" cy="9151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5" name="Straight Arrow Connector 76"/>
          <p:cNvCxnSpPr/>
          <p:nvPr/>
        </p:nvCxnSpPr>
        <p:spPr>
          <a:xfrm>
            <a:off x="5486400" y="4114440"/>
            <a:ext cx="1372320" cy="15246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6" name="Straight Arrow Connector 79"/>
          <p:cNvCxnSpPr/>
          <p:nvPr/>
        </p:nvCxnSpPr>
        <p:spPr>
          <a:xfrm>
            <a:off x="6019560" y="4038120"/>
            <a:ext cx="11437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97" name="TextBox 80"/>
          <p:cNvSpPr/>
          <p:nvPr/>
        </p:nvSpPr>
        <p:spPr>
          <a:xfrm>
            <a:off x="228600" y="2209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ndul scrisulu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TextBox 81"/>
          <p:cNvSpPr/>
          <p:nvPr/>
        </p:nvSpPr>
        <p:spPr>
          <a:xfrm>
            <a:off x="2438280" y="1828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rimea scrisulu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TextBox 84"/>
          <p:cNvSpPr/>
          <p:nvPr/>
        </p:nvSpPr>
        <p:spPr>
          <a:xfrm>
            <a:off x="5486400" y="16002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pasand acest buton putem sterge formatul textului selecta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TextBox 85"/>
          <p:cNvSpPr/>
          <p:nvPr/>
        </p:nvSpPr>
        <p:spPr>
          <a:xfrm>
            <a:off x="678168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uloarea textulu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TextBox 86"/>
          <p:cNvSpPr/>
          <p:nvPr/>
        </p:nvSpPr>
        <p:spPr>
          <a:xfrm rot="20334600">
            <a:off x="5662800" y="53478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pasand acest buton putem formata textul cu majuscule sau cu litere mici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TextBox 87"/>
          <p:cNvSpPr/>
          <p:nvPr/>
        </p:nvSpPr>
        <p:spPr>
          <a:xfrm rot="20652000">
            <a:off x="4627080" y="486396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patiul dintre caracter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TextBox 89"/>
          <p:cNvSpPr/>
          <p:nvPr/>
        </p:nvSpPr>
        <p:spPr>
          <a:xfrm>
            <a:off x="3048120" y="56386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pasand acest buton inseram o umbra textului select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TextBox 90"/>
          <p:cNvSpPr/>
          <p:nvPr/>
        </p:nvSpPr>
        <p:spPr>
          <a:xfrm>
            <a:off x="2286000" y="2514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aiat cu o lini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TextBox 98"/>
          <p:cNvSpPr/>
          <p:nvPr/>
        </p:nvSpPr>
        <p:spPr>
          <a:xfrm>
            <a:off x="457200" y="5715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ubliniem textul selectat Ctrl+U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TextBox 100"/>
          <p:cNvSpPr/>
          <p:nvPr/>
        </p:nvSpPr>
        <p:spPr>
          <a:xfrm>
            <a:off x="152280" y="46483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cris italic (inclinat) Ctrl+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TextBox 101"/>
          <p:cNvSpPr/>
          <p:nvPr/>
        </p:nvSpPr>
        <p:spPr>
          <a:xfrm>
            <a:off x="152280" y="3276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ngrosat (BOLD) Ctrl+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PARAGRAPH(PARAGRAF)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620880" cy="1370160"/>
          </a:xfrm>
          <a:prstGeom prst="rect">
            <a:avLst/>
          </a:prstGeom>
          <a:ln w="0">
            <a:noFill/>
          </a:ln>
        </p:spPr>
      </p:pic>
      <p:cxnSp>
        <p:nvCxnSpPr>
          <p:cNvPr id="410" name="Straight Arrow Connector 5"/>
          <p:cNvCxnSpPr/>
          <p:nvPr/>
        </p:nvCxnSpPr>
        <p:spPr>
          <a:xfrm flipV="1">
            <a:off x="5257800" y="1904400"/>
            <a:ext cx="1753200" cy="14482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1" name="Straight Arrow Connector 7"/>
          <p:cNvCxnSpPr/>
          <p:nvPr/>
        </p:nvCxnSpPr>
        <p:spPr>
          <a:xfrm flipV="1">
            <a:off x="5333760" y="3276360"/>
            <a:ext cx="1448280" cy="3816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2" name="Straight Arrow Connector 9"/>
          <p:cNvCxnSpPr/>
          <p:nvPr/>
        </p:nvCxnSpPr>
        <p:spPr>
          <a:xfrm>
            <a:off x="5334120" y="3886200"/>
            <a:ext cx="762480" cy="991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3" name="Straight Arrow Connector 11"/>
          <p:cNvCxnSpPr/>
          <p:nvPr/>
        </p:nvCxnSpPr>
        <p:spPr>
          <a:xfrm flipH="1">
            <a:off x="3885480" y="3886200"/>
            <a:ext cx="153000" cy="9151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14" name="Oval 13"/>
          <p:cNvSpPr/>
          <p:nvPr/>
        </p:nvSpPr>
        <p:spPr>
          <a:xfrm>
            <a:off x="2666880" y="3581280"/>
            <a:ext cx="11430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15" name="Straight Arrow Connector 15"/>
          <p:cNvCxnSpPr/>
          <p:nvPr/>
        </p:nvCxnSpPr>
        <p:spPr>
          <a:xfrm flipH="1">
            <a:off x="2056680" y="3886200"/>
            <a:ext cx="1067400" cy="14486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6" name="Straight Arrow Connector 19"/>
          <p:cNvCxnSpPr/>
          <p:nvPr/>
        </p:nvCxnSpPr>
        <p:spPr>
          <a:xfrm flipH="1" flipV="1">
            <a:off x="1599480" y="2895120"/>
            <a:ext cx="1143720" cy="5342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7" name="Straight Arrow Connector 21"/>
          <p:cNvCxnSpPr/>
          <p:nvPr/>
        </p:nvCxnSpPr>
        <p:spPr>
          <a:xfrm flipH="1" flipV="1">
            <a:off x="2818800" y="2285640"/>
            <a:ext cx="456120" cy="1069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8" name="Straight Arrow Connector 23"/>
          <p:cNvCxnSpPr/>
          <p:nvPr/>
        </p:nvCxnSpPr>
        <p:spPr>
          <a:xfrm flipV="1">
            <a:off x="3809880" y="1904400"/>
            <a:ext cx="153360" cy="15246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9" name="Straight Arrow Connector 25"/>
          <p:cNvCxnSpPr/>
          <p:nvPr/>
        </p:nvCxnSpPr>
        <p:spPr>
          <a:xfrm flipV="1">
            <a:off x="4343400" y="2437920"/>
            <a:ext cx="534240" cy="991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20" name="TextBox 14"/>
          <p:cNvSpPr/>
          <p:nvPr/>
        </p:nvSpPr>
        <p:spPr>
          <a:xfrm>
            <a:off x="0" y="25909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unct pentru inceperea unei propozitii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TextBox 16"/>
          <p:cNvSpPr/>
          <p:nvPr/>
        </p:nvSpPr>
        <p:spPr>
          <a:xfrm>
            <a:off x="228600" y="19051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umerotarea propozitiilo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TextBox 18"/>
          <p:cNvSpPr/>
          <p:nvPr/>
        </p:nvSpPr>
        <p:spPr>
          <a:xfrm>
            <a:off x="1066680" y="15238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utarea textului in stanga sau in dreapta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TextBox 24"/>
          <p:cNvSpPr/>
          <p:nvPr/>
        </p:nvSpPr>
        <p:spPr>
          <a:xfrm>
            <a:off x="3962520" y="2057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patiul dintre randuri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TextBox 28"/>
          <p:cNvSpPr/>
          <p:nvPr/>
        </p:nvSpPr>
        <p:spPr>
          <a:xfrm>
            <a:off x="6248520" y="1523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irectia textulu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TextBox 33"/>
          <p:cNvSpPr/>
          <p:nvPr/>
        </p:nvSpPr>
        <p:spPr>
          <a:xfrm>
            <a:off x="6629400" y="2895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linierea textulu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TextBox 34"/>
          <p:cNvSpPr/>
          <p:nvPr/>
        </p:nvSpPr>
        <p:spPr>
          <a:xfrm>
            <a:off x="5638680" y="495288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pasand acest buton putem converti textul in grafice 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TextBox 36"/>
          <p:cNvSpPr/>
          <p:nvPr/>
        </p:nvSpPr>
        <p:spPr>
          <a:xfrm>
            <a:off x="3429000" y="4800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oloan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TextBox 37"/>
          <p:cNvSpPr/>
          <p:nvPr/>
        </p:nvSpPr>
        <p:spPr>
          <a:xfrm>
            <a:off x="533520" y="51814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sezarea textului in pagin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DRAWING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590920" y="3200400"/>
            <a:ext cx="3338280" cy="1170000"/>
          </a:xfrm>
          <a:prstGeom prst="rect">
            <a:avLst/>
          </a:prstGeom>
          <a:ln w="0">
            <a:noFill/>
          </a:ln>
        </p:spPr>
      </p:pic>
      <p:cxnSp>
        <p:nvCxnSpPr>
          <p:cNvPr id="431" name="Straight Arrow Connector 5"/>
          <p:cNvCxnSpPr/>
          <p:nvPr/>
        </p:nvCxnSpPr>
        <p:spPr>
          <a:xfrm flipV="1">
            <a:off x="4259880" y="2209320"/>
            <a:ext cx="144720" cy="991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2" name="Straight Arrow Connector 7"/>
          <p:cNvCxnSpPr/>
          <p:nvPr/>
        </p:nvCxnSpPr>
        <p:spPr>
          <a:xfrm flipV="1">
            <a:off x="5181480" y="2590560"/>
            <a:ext cx="534240" cy="8388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3" name="Straight Arrow Connector 9"/>
          <p:cNvCxnSpPr/>
          <p:nvPr/>
        </p:nvCxnSpPr>
        <p:spPr>
          <a:xfrm flipV="1">
            <a:off x="5715000" y="3580920"/>
            <a:ext cx="457920" cy="153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4" name="Straight Arrow Connector 11"/>
          <p:cNvCxnSpPr/>
          <p:nvPr/>
        </p:nvCxnSpPr>
        <p:spPr>
          <a:xfrm>
            <a:off x="5562720" y="4114440"/>
            <a:ext cx="457920" cy="686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5" name="Straight Arrow Connector 13"/>
          <p:cNvCxnSpPr/>
          <p:nvPr/>
        </p:nvCxnSpPr>
        <p:spPr>
          <a:xfrm>
            <a:off x="4495680" y="4038480"/>
            <a:ext cx="76680" cy="991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6" name="Straight Arrow Connector 15"/>
          <p:cNvCxnSpPr/>
          <p:nvPr/>
        </p:nvCxnSpPr>
        <p:spPr>
          <a:xfrm flipH="1">
            <a:off x="1751760" y="3962520"/>
            <a:ext cx="1143720" cy="762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37" name="TextBox 10"/>
          <p:cNvSpPr/>
          <p:nvPr/>
        </p:nvSpPr>
        <p:spPr>
          <a:xfrm>
            <a:off x="533520" y="46483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in aceasta caseta putem alege diferite forme geometrice sau sageti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TextBox 12"/>
          <p:cNvSpPr/>
          <p:nvPr/>
        </p:nvSpPr>
        <p:spPr>
          <a:xfrm>
            <a:off x="2514600" y="1905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anjarea obiectelor in pagi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TextBox 16"/>
          <p:cNvSpPr/>
          <p:nvPr/>
        </p:nvSpPr>
        <p:spPr>
          <a:xfrm>
            <a:off x="3505320" y="5105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ilul imagini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TextBox 17"/>
          <p:cNvSpPr/>
          <p:nvPr/>
        </p:nvSpPr>
        <p:spPr>
          <a:xfrm>
            <a:off x="5562720" y="2514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ndul imagini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TextBox 18"/>
          <p:cNvSpPr/>
          <p:nvPr/>
        </p:nvSpPr>
        <p:spPr>
          <a:xfrm>
            <a:off x="6248520" y="342900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uloarea marginil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TextBox 19"/>
          <p:cNvSpPr/>
          <p:nvPr/>
        </p:nvSpPr>
        <p:spPr>
          <a:xfrm>
            <a:off x="5867280" y="4800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fecte pentru scris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EDITING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3800520" y="3133800"/>
            <a:ext cx="1305000" cy="1288800"/>
          </a:xfrm>
          <a:prstGeom prst="rect">
            <a:avLst/>
          </a:prstGeom>
          <a:ln w="0">
            <a:noFill/>
          </a:ln>
        </p:spPr>
      </p:pic>
      <p:cxnSp>
        <p:nvCxnSpPr>
          <p:cNvPr id="445" name="Straight Arrow Connector 5"/>
          <p:cNvCxnSpPr/>
          <p:nvPr/>
        </p:nvCxnSpPr>
        <p:spPr>
          <a:xfrm flipV="1">
            <a:off x="4341960" y="2363400"/>
            <a:ext cx="3600" cy="9151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46" name="Straight Arrow Connector 7"/>
          <p:cNvCxnSpPr/>
          <p:nvPr/>
        </p:nvCxnSpPr>
        <p:spPr>
          <a:xfrm flipV="1">
            <a:off x="5105160" y="3581280"/>
            <a:ext cx="1067400" cy="766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47" name="Straight Arrow Connector 9"/>
          <p:cNvCxnSpPr/>
          <p:nvPr/>
        </p:nvCxnSpPr>
        <p:spPr>
          <a:xfrm flipH="1">
            <a:off x="2133360" y="4037400"/>
            <a:ext cx="1753200" cy="3819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48" name="TextBox 6"/>
          <p:cNvSpPr/>
          <p:nvPr/>
        </p:nvSpPr>
        <p:spPr>
          <a:xfrm>
            <a:off x="3276720" y="2057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uta ( find) Ctrl+F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TextBox 8"/>
          <p:cNvSpPr/>
          <p:nvPr/>
        </p:nvSpPr>
        <p:spPr>
          <a:xfrm>
            <a:off x="6172200" y="35053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plasarea textului intr-un document Ctrl+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TextBox 11"/>
          <p:cNvSpPr/>
          <p:nvPr/>
        </p:nvSpPr>
        <p:spPr>
          <a:xfrm>
            <a:off x="228600" y="4419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lectarea unui text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NIUL FI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Save-utilizat pentru salvarea tuturor schimbarilor realizate in PowerPoint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Save as- utilizat pentru salvarea fisierului cu extensiile pe care le dorim: pptx,pptm,pdf,xps etc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Open-utilizat pentru deschiderea altui folder/program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Close-utilizat pentru inchiderea programului PowerPoint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Info-utilizat pentru obtinerea de informatii in legatura cu optiunile PowerPoint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8" descr="fdv.png"/>
          <p:cNvPicPr/>
          <p:nvPr/>
        </p:nvPicPr>
        <p:blipFill>
          <a:blip r:embed="rId1"/>
          <a:stretch/>
        </p:blipFill>
        <p:spPr>
          <a:xfrm>
            <a:off x="533520" y="3429000"/>
            <a:ext cx="2819160" cy="29750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0" descr="Untitled.png"/>
          <p:cNvPicPr/>
          <p:nvPr/>
        </p:nvPicPr>
        <p:blipFill>
          <a:blip r:embed="rId2"/>
          <a:stretch/>
        </p:blipFill>
        <p:spPr>
          <a:xfrm>
            <a:off x="3581280" y="3581280"/>
            <a:ext cx="4781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ndrei Herța</dc:creator>
  <dc:description/>
  <dc:language>en-US</dc:language>
  <cp:lastModifiedBy>tuty</cp:lastModifiedBy>
  <dcterms:modified xsi:type="dcterms:W3CDTF">2013-06-14T04:24:48Z</dcterms:modified>
  <cp:revision>23</cp:revision>
  <dc:subject/>
  <dc:title>Slide 1</dc:title>
</cp:coreProperties>
</file>